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10.wmf" ContentType="image/x-wmf"/>
  <Override PartName="/ppt/media/image7.png" ContentType="image/png"/>
  <Override PartName="/ppt/media/image8.jpeg" ContentType="image/jpeg"/>
  <Override PartName="/ppt/media/image9.jpeg" ContentType="image/jpeg"/>
  <Override PartName="/ppt/media/image11.jpeg" ContentType="image/jpeg"/>
  <Override PartName="/ppt/media/image12.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A5D5E-4311-478D-83EA-36768798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DEDEF-4C6D-4791-9667-31D0E352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D5E39-3DCB-4CFE-A56C-460289FA6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0E96E-A364-45DA-BA52-5F95F3B96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B7F15-0D55-4C86-936F-A68F935C7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D53A5-08FA-4454-9233-A5C46FECD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3E7B9-24AB-435A-88A4-688007500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443E1-8CAE-4F73-A7EA-EB549DC70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F200C-6BB8-40DE-A04E-2D4E163E7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6E2E4-E197-4397-ACB9-F1CC7C324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FBC0-6BE1-4F7C-A912-A6E9DCA2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70A2-A634-4EF2-9F0C-CFC14AF5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10BA6-33A9-4B2E-B555-6B64BE463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41EF-D06F-4FB5-BC85-832E7B5B3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85DEB-F447-49DD-9624-D52DE541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961DF-86F0-4DB7-A479-2B39F1EF1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17118-6CDC-4580-A813-BC034EE74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73DC1-3F80-4538-A2E3-CFF5C51F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312E6-DEED-45A5-AD80-01D75D2A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B146-41EB-4158-8B5A-AC91878F3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06F1-735B-4FBE-9CEA-052439135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A3AD-0B49-4DEF-BA25-AA4B1DEC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E6CA-00F7-4DC5-9E74-5AD4D502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D05C6-A278-454B-A63E-0C6F62B61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FD76-6ED2-4120-9E22-C2FD8C28E5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8C3A-DD46-4808-BA42-AB4EF0F316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Pcjnz26pnwY" TargetMode="External"/><Relationship Id="rId2" Type="http://schemas.openxmlformats.org/officeDocument/2006/relationships/hyperlink" Target="http://www.youtube.com/watch?v=2vBpkgJBiZY" TargetMode="External"/><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Proposed Budget</a:t>
            </a:r>
            <a:endParaRPr b="0" lang="en-US" sz="3600" spc="-1" strike="noStrike">
              <a:solidFill>
                <a:srgbClr val="8c0039"/>
              </a:solidFill>
              <a:latin typeface="Arial"/>
            </a:endParaRPr>
          </a:p>
        </p:txBody>
      </p:sp>
      <p:sp>
        <p:nvSpPr>
          <p:cNvPr id="8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b1d"/>
                </a:solidFill>
                <a:latin typeface="Arial"/>
              </a:rPr>
              <a:t>High School Geometr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b1d"/>
                </a:solidFill>
                <a:latin typeface="Arial"/>
              </a:rPr>
              <a:t>Ms. Alissa Krug</a:t>
            </a:r>
            <a:endParaRPr b="0" lang="en-US" sz="3200" spc="-1" strike="noStrike">
              <a:solidFill>
                <a:srgbClr val="000000"/>
              </a:solidFill>
              <a:latin typeface="Arial"/>
            </a:endParaRPr>
          </a:p>
        </p:txBody>
      </p:sp>
      <p:pic>
        <p:nvPicPr>
          <p:cNvPr id="87" name="Picture 4" descr=""/>
          <p:cNvPicPr/>
          <p:nvPr/>
        </p:nvPicPr>
        <p:blipFill>
          <a:blip r:embed="rId1"/>
          <a:stretch/>
        </p:blipFill>
        <p:spPr>
          <a:xfrm>
            <a:off x="2666880" y="2286000"/>
            <a:ext cx="5415120" cy="401796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iagnostic Assessments</a:t>
            </a: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Questionnaire</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questionnaire is designed for you to answer first. You will then take the questionnaire home to your parents of guardians to see how their answers are similar or different from your responses. The questions will pertain to real world examples of surface area and area. This will not be a graded assignment.</a:t>
            </a:r>
            <a:endParaRPr b="0" lang="en-US" sz="16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Brain Drain</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designed for you to write down all that you already know about area and surface area before beginning discussion of the unit. This will aid in a deeper understanding of what you already know and how you learn. This will not be a graded assignm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Surface Area and Area Pretest</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given a pretest on solving for the area or surface area of basic shapes. Again, this pretest will not be a graded assessment. This will allow me to assess how prepared you already are and what shapes you are already familiar wit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ormative Assessments</a:t>
            </a:r>
            <a:endParaRPr b="0" lang="en-US" sz="3600" spc="-1" strike="noStrike">
              <a:solidFill>
                <a:srgbClr val="8c0039"/>
              </a:solidFill>
              <a:latin typeface="Arial"/>
            </a:endParaRPr>
          </a:p>
        </p:txBody>
      </p:sp>
      <p:sp>
        <p:nvSpPr>
          <p:cNvPr id="111" name="PlaceHolder 2"/>
          <p:cNvSpPr>
            <a:spLocks noGrp="1"/>
          </p:cNvSpPr>
          <p:nvPr>
            <p:ph/>
          </p:nvPr>
        </p:nvSpPr>
        <p:spPr>
          <a:xfrm>
            <a:off x="2437920" y="1599840"/>
            <a:ext cx="3124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Class work</a:t>
            </a:r>
            <a:endParaRPr b="0" lang="en-US" sz="2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given ample class time to work collaboratively in completing class work as well as homework using the surface area and area formulas. You will display and explain your work on the board in the classroo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Open-ended Question</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complete an open-ended question using a rubric that we have co-created to guide you. After completing the open-ended question you will break off into small groups and assess each other using the same rubric. You will be able to provide suggestions to your classmates and reflect upon what it is they could do to improve their work for the next assessmen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5c"/>
                </a:solidFill>
                <a:latin typeface="Arial"/>
              </a:rPr>
              <a:t>Surface Area and Area Quizzes</a:t>
            </a:r>
            <a:endParaRPr b="0" lang="en-US" sz="20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expected to complete quizzes on finding area and surface area of shapes. The quizzes given will be in the form of short answer responses and show your work. You will be able to use your quizzes as a self assessment tool to help attain the knowledge to better prepare yourself for the next assessment task.</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a:off x="2424600" y="990720"/>
            <a:ext cx="652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mative assessments are for me to gain an understanding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opics that may need re-teaching.</a:t>
            </a:r>
            <a:endParaRPr b="0" lang="en-US" sz="1800" spc="-1" strike="noStrike">
              <a:solidFill>
                <a:srgbClr val="000000"/>
              </a:solidFill>
              <a:latin typeface="Arial"/>
            </a:endParaRPr>
          </a:p>
        </p:txBody>
      </p:sp>
      <p:pic>
        <p:nvPicPr>
          <p:cNvPr id="114" name="" descr=""/>
          <p:cNvPicPr/>
          <p:nvPr/>
        </p:nvPicPr>
        <p:blipFill>
          <a:blip r:embed="rId1"/>
          <a:stretch/>
        </p:blipFill>
        <p:spPr>
          <a:xfrm>
            <a:off x="5791320" y="4572000"/>
            <a:ext cx="3124080" cy="201312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133720" y="0"/>
            <a:ext cx="7010280" cy="6858000"/>
          </a:xfrm>
          <a:prstGeom prst="rect">
            <a:avLst/>
          </a:prstGeom>
          <a:ln w="0">
            <a:noFill/>
          </a:ln>
        </p:spPr>
      </p:pic>
      <p:sp>
        <p:nvSpPr>
          <p:cNvPr id="116" name="PlaceHolder 1"/>
          <p:cNvSpPr>
            <a:spLocks noGrp="1"/>
          </p:cNvSpPr>
          <p:nvPr>
            <p:ph type="title"/>
          </p:nvPr>
        </p:nvSpPr>
        <p:spPr>
          <a:xfrm>
            <a:off x="2438280" y="2286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erformance Assessment</a:t>
            </a:r>
            <a:endParaRPr b="0" lang="en-US" sz="3600" spc="-1" strike="noStrike">
              <a:solidFill>
                <a:srgbClr val="8c0039"/>
              </a:solidFill>
              <a:latin typeface="Arial"/>
            </a:endParaRPr>
          </a:p>
        </p:txBody>
      </p:sp>
      <p:sp>
        <p:nvSpPr>
          <p:cNvPr id="117" name="PlaceHolder 2"/>
          <p:cNvSpPr>
            <a:spLocks noGrp="1"/>
          </p:cNvSpPr>
          <p:nvPr>
            <p:ph/>
          </p:nvPr>
        </p:nvSpPr>
        <p:spPr>
          <a:xfrm>
            <a:off x="2514600" y="2133720"/>
            <a:ext cx="6400800" cy="449568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al of the assessment:</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70000"/>
              </a:lnSpc>
              <a:spcBef>
                <a:spcPts val="4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005c"/>
                </a:solidFill>
                <a:latin typeface="Arial"/>
              </a:rPr>
              <a:t>Your task</a:t>
            </a:r>
            <a:r>
              <a:rPr b="0" i="1" lang="en-US" sz="1600" spc="-1" strike="noStrike">
                <a:solidFill>
                  <a:srgbClr val="e4005c"/>
                </a:solidFill>
                <a:latin typeface="Arial"/>
              </a:rPr>
              <a:t> </a:t>
            </a:r>
            <a:r>
              <a:rPr b="0" lang="en-US" sz="1600" spc="-1" strike="noStrike">
                <a:solidFill>
                  <a:srgbClr val="e4005c"/>
                </a:solidFill>
                <a:latin typeface="Arial"/>
              </a:rPr>
              <a:t>is to put yourself in the eyes of a contractor in order to create a proposed budget for a room renovation. </a:t>
            </a:r>
            <a:endParaRPr b="0" lang="en-US" sz="16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stacles:</a:t>
            </a:r>
            <a:r>
              <a:rPr b="0" i="1" lang="en-US" sz="1800" spc="-1" strike="noStrike">
                <a:solidFill>
                  <a:srgbClr val="e4005c"/>
                </a:solidFill>
                <a:latin typeface="Arial"/>
              </a:rPr>
              <a:t> </a:t>
            </a:r>
            <a:endParaRPr b="0" lang="en-US" sz="1800" spc="-1" strike="noStrike">
              <a:solidFill>
                <a:srgbClr val="000000"/>
              </a:solidFill>
              <a:latin typeface="Arial"/>
            </a:endParaRPr>
          </a:p>
          <a:p>
            <a:pPr marL="343080" indent="-343080">
              <a:lnSpc>
                <a:spcPct val="70000"/>
              </a:lnSpc>
              <a:spcBef>
                <a:spcPts val="4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005c"/>
                </a:solidFill>
                <a:latin typeface="Arial"/>
              </a:rPr>
              <a:t>The obstacles to overcome are using surface area and area to find out how much material you will be using and what is the most cost efficient way to renovate the room with the materials the homeowner would like (for example: wallpaper, paint, carpet, wood flooring). </a:t>
            </a:r>
            <a:endParaRPr b="0" lang="en-US" sz="16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ole, Audience, and Situation:</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70000"/>
              </a:lnSpc>
              <a:spcBef>
                <a:spcPts val="4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005c"/>
                </a:solidFill>
                <a:latin typeface="Arial"/>
              </a:rPr>
              <a:t>You have been asked to complete a room renovation and provide a budget in which you will be able to accomplish this project. You need to convince the home owners that the budget you have calculated will be the most cost efficient way of completing the room renovation. The challenge involves dealing with shopping at multiple retailers to find the best buy, calculating the amount of the material you will need to complete the room renovation and discussing with the homeowners why your budget is the most cost efficien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erformance Assessment Continued…</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005c"/>
                </a:solidFill>
                <a:latin typeface="Arial"/>
              </a:rPr>
              <a:t>Overall Product and Performance:</a:t>
            </a:r>
            <a:r>
              <a:rPr b="0" lang="en-US" sz="2000" spc="-1" strike="noStrike">
                <a:solidFill>
                  <a:srgbClr val="e4005c"/>
                </a:solidFill>
                <a:latin typeface="Arial"/>
              </a:rPr>
              <a:t> </a:t>
            </a:r>
            <a:endParaRPr b="0" lang="en-US" sz="2000" spc="-1" strike="noStrike">
              <a:solidFill>
                <a:srgbClr val="000000"/>
              </a:solidFill>
              <a:latin typeface="Arial"/>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will create a cost efficient proposed budget in order to complete the room renovation within the customer’s home. The customers you will be using are your parents or guardians in order to determine the materials that will be used in your budget. You will present your proposed budget to your classmates through use of visual representation. You may use a power point, slide show of your work, diorama, or data display using the information to support your findings. Finally, you will journal what it is you have learned throughout this assessment about real world applications. Your work will be judged based on the rubric we have co-created.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Surface Area of a Rectangular Pr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2"/>
              </a:rPr>
              <a:t>Area of a rectangle</a:t>
            </a:r>
            <a:endParaRPr b="0" lang="en-US" sz="3200" spc="-1" strike="noStrike">
              <a:solidFill>
                <a:srgbClr val="000000"/>
              </a:solidFill>
              <a:latin typeface="Arial"/>
            </a:endParaRPr>
          </a:p>
        </p:txBody>
      </p:sp>
      <p:pic>
        <p:nvPicPr>
          <p:cNvPr id="121" name="" descr=""/>
          <p:cNvPicPr/>
          <p:nvPr/>
        </p:nvPicPr>
        <p:blipFill>
          <a:blip r:embed="rId3"/>
          <a:stretch/>
        </p:blipFill>
        <p:spPr>
          <a:xfrm>
            <a:off x="4267080" y="2666880"/>
            <a:ext cx="2743200" cy="2133720"/>
          </a:xfrm>
          <a:prstGeom prst="rect">
            <a:avLst/>
          </a:prstGeom>
          <a:ln w="0">
            <a:noFill/>
          </a:ln>
        </p:spPr>
      </p:pic>
      <p:sp>
        <p:nvSpPr>
          <p:cNvPr id="122" name="PlaceHolder 2"/>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xamples of Formulas</a:t>
            </a:r>
            <a:endParaRPr b="0" lang="en-US" sz="3600" spc="-1" strike="noStrike">
              <a:solidFill>
                <a:srgbClr val="8c0039"/>
              </a:solidFill>
              <a:latin typeface="Arial"/>
            </a:endParaRPr>
          </a:p>
        </p:txBody>
      </p:sp>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Rubric</a:t>
            </a:r>
            <a:endParaRPr b="0" lang="en-US" sz="3600" spc="-1" strike="noStrike">
              <a:solidFill>
                <a:srgbClr val="8c0039"/>
              </a:solidFill>
              <a:latin typeface="Arial"/>
            </a:endParaRPr>
          </a:p>
        </p:txBody>
      </p:sp>
      <p:graphicFrame>
        <p:nvGraphicFramePr>
          <p:cNvPr id="124" name=""/>
          <p:cNvGraphicFramePr/>
          <p:nvPr/>
        </p:nvGraphicFramePr>
        <p:xfrm>
          <a:off x="2438280" y="1371600"/>
          <a:ext cx="6400800" cy="4826160"/>
        </p:xfrm>
        <a:graphic>
          <a:graphicData uri="http://schemas.openxmlformats.org/drawingml/2006/table">
            <a:tbl>
              <a:tblPr/>
              <a:tblGrid>
                <a:gridCol w="1600200"/>
                <a:gridCol w="1600200"/>
                <a:gridCol w="1600200"/>
                <a:gridCol w="1600200"/>
              </a:tblGrid>
              <a:tr h="10249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ed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More Time</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14965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hematical Calculation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completed calculations for surface area and area with no mathematical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have completed calculations for surface area and area with few mathematical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have completed calculations for surface area and area with many mathematical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23047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World Application</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as able to successfully apply surface area and area concepts to real world situation. Students were able to prepare a proposed budget of material for a room renovation with no err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as able to apply surface area and area concepts to real world situation. Students were able to prepare a proposed budget of material for a room renovation with few err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as able to apply surface area and area concepts to real world situation. Students were able to prepare a proposed budget of material for a room renovation with many error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Rubric Continued…</a:t>
            </a:r>
            <a:endParaRPr b="0" lang="en-US" sz="3600" spc="-1" strike="noStrike">
              <a:solidFill>
                <a:srgbClr val="8c0039"/>
              </a:solidFill>
              <a:latin typeface="Arial"/>
            </a:endParaRPr>
          </a:p>
        </p:txBody>
      </p:sp>
      <p:graphicFrame>
        <p:nvGraphicFramePr>
          <p:cNvPr id="126" name=""/>
          <p:cNvGraphicFramePr/>
          <p:nvPr/>
        </p:nvGraphicFramePr>
        <p:xfrm>
          <a:off x="2438280" y="1676520"/>
          <a:ext cx="6400800" cy="2895480"/>
        </p:xfrm>
        <a:graphic>
          <a:graphicData uri="http://schemas.openxmlformats.org/drawingml/2006/table">
            <a:tbl>
              <a:tblPr/>
              <a:tblGrid>
                <a:gridCol w="1600200"/>
                <a:gridCol w="1600200"/>
                <a:gridCol w="1600200"/>
                <a:gridCol w="1600200"/>
              </a:tblGrid>
              <a:tr h="9241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ed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s Expectations</a:t>
                      </a:r>
                      <a:endParaRPr b="0" lang="en-US" sz="1400" spc="-1" strike="noStrike">
                        <a:solidFill>
                          <a:srgbClr val="000000"/>
                        </a:solidFill>
                        <a:latin typeface="Arial"/>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More Time</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20991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ual Presentation</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supported their findings through visual representation. Student incorporated creativity and technology into the visual presenta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supported their findings through visual representation. Student incorporated little creativity and technology into the visual presen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will have supported their findings through visual representation. Student incorporated no creativity and technology into the visual present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Rubric Continued…</a:t>
            </a:r>
            <a:endParaRPr b="0" lang="en-US" sz="3600" spc="-1" strike="noStrike">
              <a:solidFill>
                <a:srgbClr val="8c0039"/>
              </a:solidFill>
              <a:latin typeface="Arial"/>
            </a:endParaRPr>
          </a:p>
        </p:txBody>
      </p:sp>
      <p:graphicFrame>
        <p:nvGraphicFramePr>
          <p:cNvPr id="128" name=""/>
          <p:cNvGraphicFramePr/>
          <p:nvPr/>
        </p:nvGraphicFramePr>
        <p:xfrm>
          <a:off x="2438280" y="1600200"/>
          <a:ext cx="6400800" cy="4836960"/>
        </p:xfrm>
        <a:graphic>
          <a:graphicData uri="http://schemas.openxmlformats.org/drawingml/2006/table">
            <a:tbl>
              <a:tblPr/>
              <a:tblGrid>
                <a:gridCol w="1600200"/>
                <a:gridCol w="1600200"/>
                <a:gridCol w="1600200"/>
                <a:gridCol w="1600200"/>
              </a:tblGrid>
              <a:tr h="9907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eds Expectations</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s Expectations</a:t>
                      </a:r>
                      <a:endParaRPr b="0" lang="en-US" sz="1400" spc="-1" strike="noStrike">
                        <a:solidFill>
                          <a:srgbClr val="000000"/>
                        </a:solidFill>
                        <a:latin typeface="Arial"/>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More Time</a:t>
                      </a:r>
                      <a:endParaRPr b="0" lang="en-US" sz="1400" spc="-1" strike="noStrike">
                        <a:solidFill>
                          <a:srgbClr val="000000"/>
                        </a:solidFill>
                        <a:latin typeface="Arial"/>
                      </a:endParaRPr>
                    </a:p>
                    <a:p>
                      <a:pPr algn="ct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84624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urnal</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cussed what they have learned about surface area and area in real world applications.</a:t>
                      </a:r>
                      <a:endParaRPr b="0" lang="en-US" sz="1200" spc="-1" strike="noStrike">
                        <a:solidFill>
                          <a:srgbClr val="000000"/>
                        </a:solidFill>
                        <a:latin typeface="Arial"/>
                      </a:endParaRPr>
                    </a:p>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provided a detailed written description of their room renovation including measurements of the length/width/height, how much material was needed as well as cost per uni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cussed what they have learned about surface area and area in real world applications.</a:t>
                      </a:r>
                      <a:endParaRPr b="0" lang="en-US" sz="1200" spc="-1" strike="noStrike">
                        <a:solidFill>
                          <a:srgbClr val="000000"/>
                        </a:solidFill>
                        <a:latin typeface="Arial"/>
                      </a:endParaRPr>
                    </a:p>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provided a written description of their room renovation excluding one of the following: measurements of the length/width/height, how much material was needed as well as cost per uni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cussed what they have learned about surface area and area in real world applications.</a:t>
                      </a:r>
                      <a:endParaRPr b="0" lang="en-US" sz="1200" spc="-1" strike="noStrike">
                        <a:solidFill>
                          <a:srgbClr val="000000"/>
                        </a:solidFill>
                        <a:latin typeface="Arial"/>
                      </a:endParaRPr>
                    </a:p>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provided a written description of their room renovation excluding more than one of the following: measurements of the length/width/height, how much material was needed as well as cost per uni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aper and Pencil Assessment</a:t>
            </a:r>
            <a:br>
              <a:rPr sz="3600"/>
            </a:br>
            <a:r>
              <a:rPr b="0" lang="en-US" sz="3600" spc="-1" strike="noStrike">
                <a:solidFill>
                  <a:srgbClr val="8c0039"/>
                </a:solidFill>
                <a:latin typeface="Arial"/>
              </a:rPr>
              <a:t>Surface Area and Area Test</a:t>
            </a:r>
            <a:endParaRPr b="0" lang="en-US" sz="3600" spc="-1" strike="noStrike">
              <a:solidFill>
                <a:srgbClr val="8c0039"/>
              </a:solidFill>
              <a:latin typeface="Arial"/>
            </a:endParaRPr>
          </a:p>
        </p:txBody>
      </p:sp>
      <p:sp>
        <p:nvSpPr>
          <p:cNvPr id="130" name="PlaceHolder 2"/>
          <p:cNvSpPr>
            <a:spLocks noGrp="1"/>
          </p:cNvSpPr>
          <p:nvPr>
            <p:ph/>
          </p:nvPr>
        </p:nvSpPr>
        <p:spPr>
          <a:xfrm>
            <a:off x="2437920" y="1600200"/>
            <a:ext cx="312444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Proposition</a:t>
            </a:r>
            <a:endParaRPr b="0" lang="en-US" sz="24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costs involved in painting and carpeting a room we can use the formulas for area and surface area to assist in our proced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Items</a:t>
            </a:r>
            <a:endParaRPr b="0" lang="en-US" sz="24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False questions(5)</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answer questions (10)</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hoice questions (5)</a:t>
            </a:r>
            <a:endParaRPr b="0" lang="en-US" sz="2000" spc="-1" strike="noStrike">
              <a:solidFill>
                <a:srgbClr val="000000"/>
              </a:solidFill>
              <a:latin typeface="Arial"/>
            </a:endParaRPr>
          </a:p>
          <a:p>
            <a:pPr marL="343080" indent="-343080">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ay (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2438280" y="4343400"/>
            <a:ext cx="3810240" cy="2362320"/>
          </a:xfrm>
          <a:prstGeom prst="rect">
            <a:avLst/>
          </a:prstGeom>
          <a:ln w="0">
            <a:noFill/>
          </a:ln>
        </p:spPr>
      </p:pic>
      <p:pic>
        <p:nvPicPr>
          <p:cNvPr id="133" name="" descr=""/>
          <p:cNvPicPr/>
          <p:nvPr/>
        </p:nvPicPr>
        <p:blipFill>
          <a:blip r:embed="rId2"/>
          <a:stretch/>
        </p:blipFill>
        <p:spPr>
          <a:xfrm>
            <a:off x="7238880" y="4114800"/>
            <a:ext cx="1703520" cy="2557440"/>
          </a:xfrm>
          <a:prstGeom prst="rect">
            <a:avLst/>
          </a:prstGeom>
          <a:ln w="0">
            <a:noFill/>
          </a:ln>
        </p:spPr>
      </p:pic>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udent Scores and Reflections</a:t>
            </a:r>
            <a:endParaRPr b="0" lang="en-US" sz="3600" spc="-1" strike="noStrike">
              <a:solidFill>
                <a:srgbClr val="8c0039"/>
              </a:solidFill>
              <a:latin typeface="Arial"/>
            </a:endParaRPr>
          </a:p>
        </p:txBody>
      </p:sp>
      <p:graphicFrame>
        <p:nvGraphicFramePr>
          <p:cNvPr id="135" name=""/>
          <p:cNvGraphicFramePr/>
          <p:nvPr/>
        </p:nvGraphicFramePr>
        <p:xfrm>
          <a:off x="2362320" y="1600200"/>
          <a:ext cx="6400800" cy="4695840"/>
        </p:xfrm>
        <a:graphic>
          <a:graphicData uri="http://schemas.openxmlformats.org/drawingml/2006/table">
            <a:tbl>
              <a:tblPr/>
              <a:tblGrid>
                <a:gridCol w="1600200"/>
                <a:gridCol w="1600200"/>
                <a:gridCol w="1600200"/>
                <a:gridCol w="1600200"/>
              </a:tblGrid>
              <a:tr h="6973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Earn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63972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st- surface area and a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6411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ended ques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df4"/>
                    </a:solidFill>
                  </a:tcPr>
                </a:tc>
              </a:tr>
              <a:tr h="6393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Area Qui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64116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Qui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df4"/>
                    </a:solidFill>
                  </a:tcPr>
                </a:tc>
              </a:tr>
              <a:tr h="79704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m Renovation Proposed Budg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0d8e8"/>
                    </a:solidFill>
                  </a:tcPr>
                </a:tc>
              </a:tr>
              <a:tr h="640080">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Area and Area 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pic>
        <p:nvPicPr>
          <p:cNvPr id="136" name="" descr=""/>
          <p:cNvPicPr/>
          <p:nvPr/>
        </p:nvPicPr>
        <p:blipFill>
          <a:blip r:embed="rId1"/>
          <a:stretch/>
        </p:blipFill>
        <p:spPr>
          <a:xfrm>
            <a:off x="7315200" y="0"/>
            <a:ext cx="1566720" cy="160020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005c"/>
                </a:solidFill>
                <a:latin typeface="Arial"/>
              </a:rPr>
              <a:t>Room Renovation Proposed Budget</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66ff"/>
                </a:solidFill>
                <a:latin typeface="Stone Sans"/>
              </a:rPr>
              <a:t>Within this unit you will experience the correlation between geometry, technology, family and consumer sciences as well as Language Arts.</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a90d"/>
                </a:solidFill>
                <a:latin typeface="Stone Sans"/>
              </a:rPr>
              <a:t>The purpose of this presentation is to inform you of the importance of surface area and area in real world situations. You will use this presentation to help you successfully meet the requirements of the final proposed budget for a room renovation. Feel free to email any questions you may have along the way or ask in class. Good luck to all!!</a:t>
            </a:r>
            <a:endParaRPr b="0" lang="en-US" sz="2300" spc="-1" strike="noStrike">
              <a:solidFill>
                <a:srgbClr val="000000"/>
              </a:solidFill>
              <a:latin typeface="Arial"/>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	</a:t>
            </a:r>
            <a:r>
              <a:rPr b="0" lang="en-US" sz="2300" spc="-1" strike="noStrike">
                <a:solidFill>
                  <a:srgbClr val="ffa90d"/>
                </a:solidFill>
                <a:latin typeface="Stone Sans"/>
              </a:rPr>
              <a:t>Ms. Krug</a:t>
            </a:r>
            <a:r>
              <a:rPr b="0" lang="en-US" sz="2300" spc="-1" strike="noStrike">
                <a:solidFill>
                  <a:srgbClr val="3333cc"/>
                </a:solidFill>
                <a:latin typeface="Stone Sans"/>
              </a:rPr>
              <a:t>	</a:t>
            </a:r>
            <a:endParaRPr b="0" lang="en-US" sz="2300" spc="-1" strike="noStrike">
              <a:solidFill>
                <a:srgbClr val="000000"/>
              </a:solidFill>
              <a:latin typeface="Arial"/>
            </a:endParaRPr>
          </a:p>
        </p:txBody>
      </p:sp>
      <p:pic>
        <p:nvPicPr>
          <p:cNvPr id="90" name="" descr=""/>
          <p:cNvPicPr/>
          <p:nvPr/>
        </p:nvPicPr>
        <p:blipFill>
          <a:blip r:embed="rId1"/>
          <a:stretch/>
        </p:blipFill>
        <p:spPr>
          <a:xfrm>
            <a:off x="2438280" y="4876920"/>
            <a:ext cx="1814760" cy="1814400"/>
          </a:xfrm>
          <a:prstGeom prst="rect">
            <a:avLst/>
          </a:prstGeom>
          <a:ln w="0">
            <a:noFill/>
          </a:ln>
        </p:spPr>
      </p:pic>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a:t>
            </a:r>
            <a:endParaRPr b="0" lang="en-US" sz="3600" spc="-1" strike="noStrike">
              <a:solidFill>
                <a:srgbClr val="8c0039"/>
              </a:solidFill>
              <a:latin typeface="Arial"/>
            </a:endParaRPr>
          </a:p>
        </p:txBody>
      </p:sp>
      <p:graphicFrame>
        <p:nvGraphicFramePr>
          <p:cNvPr id="138" name=""/>
          <p:cNvGraphicFramePr/>
          <p:nvPr/>
        </p:nvGraphicFramePr>
        <p:xfrm>
          <a:off x="2438280" y="1600200"/>
          <a:ext cx="6400800" cy="3668760"/>
        </p:xfrm>
        <a:graphic>
          <a:graphicData uri="http://schemas.openxmlformats.org/drawingml/2006/table">
            <a:tbl>
              <a:tblPr/>
              <a:tblGrid>
                <a:gridCol w="1600200"/>
                <a:gridCol w="1600200"/>
                <a:gridCol w="1600200"/>
                <a:gridCol w="1600200"/>
              </a:tblGrid>
              <a:tr h="6004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0682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earning goals matched to assessment method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rporates 21</a:t>
                      </a:r>
                      <a:r>
                        <a:rPr b="0" lang="en-US" sz="1000" spc="-1" strike="noStrike" baseline="30000">
                          <a:solidFill>
                            <a:srgbClr val="000000"/>
                          </a:solidFill>
                          <a:latin typeface="Arial"/>
                        </a:rPr>
                        <a:t>st</a:t>
                      </a:r>
                      <a:r>
                        <a:rPr b="0" lang="en-US" sz="1000" spc="-1" strike="noStrike">
                          <a:solidFill>
                            <a:srgbClr val="000000"/>
                          </a:solidFill>
                          <a:latin typeface="Arial"/>
                        </a:rPr>
                        <a:t> century skills of thinking critically and creatively while obtaining information/evidence of student learn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assessments (pictures) that vary in type to make inferences from eviden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entic opportunities of real-life application of knowledge and skills that gives students the opportunity to work in their own learning prefer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ous methods and approaches for obtaining information/evidence of student learn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a variety of assessments to make inferences from evidence; a photo album, not a single pictu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opportunities for authentic application of knowledge and skil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ethod or approach of obtaining information/evidence of student learn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ngle pictu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authentic opportunities for application of knowledge and skill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0" name=""/>
          <p:cNvGraphicFramePr/>
          <p:nvPr/>
        </p:nvGraphicFramePr>
        <p:xfrm>
          <a:off x="2438280" y="1600200"/>
          <a:ext cx="6400800" cy="4071960"/>
        </p:xfrm>
        <a:graphic>
          <a:graphicData uri="http://schemas.openxmlformats.org/drawingml/2006/table">
            <a:tbl>
              <a:tblPr/>
              <a:tblGrid>
                <a:gridCol w="1600200"/>
                <a:gridCol w="1600200"/>
                <a:gridCol w="1600200"/>
                <a:gridCol w="1600200"/>
              </a:tblGrid>
              <a:tr h="8287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24324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iagnostic assessments (pre-assessment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e-assessments that involve a student’s family or communit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opportunities of reflection.</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in multiple forms more than at the beginning of a un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east one that provides information about a student’s family or communit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s reflection on the student’s par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grad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at the beginning of the unit, identify misconceptions, skill levels, interests, reveals learning preferenc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poseful with a clearly focused identified targe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include: pre-tests, skill checks, concept maps, drawings, KWL cha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9edf4"/>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information about the student’s famil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provide reflection for the studen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d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dentify misconceptions or skills levels, interests, or learning preferenc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focused on an identified targe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9edf4"/>
                    </a:solidFill>
                  </a:tcPr>
                </a:tc>
              </a:tr>
            </a:tbl>
          </a:graphicData>
        </a:graphic>
      </p:graphicFrame>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2" name=""/>
          <p:cNvGraphicFramePr/>
          <p:nvPr/>
        </p:nvGraphicFramePr>
        <p:xfrm>
          <a:off x="2438280" y="1600200"/>
          <a:ext cx="6400800" cy="4618080"/>
        </p:xfrm>
        <a:graphic>
          <a:graphicData uri="http://schemas.openxmlformats.org/drawingml/2006/table">
            <a:tbl>
              <a:tblPr/>
              <a:tblGrid>
                <a:gridCol w="1600200"/>
                <a:gridCol w="1600200"/>
                <a:gridCol w="1600200"/>
                <a:gridCol w="1600200"/>
              </a:tblGrid>
              <a:tr h="67500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9430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scriptions of formative assessment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assessments in multiple forms to reach the multiple learning preferences of the students.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e the students in the formation of the assessment mechanism by suggestions or the test, performance assessments, co-constructing rubrics, and record keep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ve feedback related to the criteria is given.</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ed up with high-quality corrective instruction to help students remedy whatever learning errors are identifi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 assessments that are used to constantly monitor the progress of the students and to inform the instruction of the teach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olve the students in the formation of the assessment mechanism in at least one way so that students know their learning goal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elf-assess their own performan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related to the criteria is given.</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ed up with corrective instru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not ongoing assessmen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volve students in the formation of the assessment mechanism.  Students do not have clear learning goal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not given an opportunity to self-assess their own performan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specific feedback (A, 82%, et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followed up with corrective instruct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4" name=""/>
          <p:cNvGraphicFramePr/>
          <p:nvPr/>
        </p:nvGraphicFramePr>
        <p:xfrm>
          <a:off x="2438280" y="1295280"/>
          <a:ext cx="6400800" cy="5415120"/>
        </p:xfrm>
        <a:graphic>
          <a:graphicData uri="http://schemas.openxmlformats.org/drawingml/2006/table">
            <a:tbl>
              <a:tblPr/>
              <a:tblGrid>
                <a:gridCol w="1600200"/>
                <a:gridCol w="1600200"/>
                <a:gridCol w="1600200"/>
                <a:gridCol w="1600200"/>
              </a:tblGrid>
              <a:tr h="59724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481788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utline of performance assessment (summative assessmen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 upon the knowledge students already have in order for transfer to take plac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backward mapp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involved in regular feedback and experience constructive corrective teach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scaffolding.</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to all different learning styles (ex. Visual, auditory, kinestheti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a broad mixture of testing components (ex. constructed response, multiple choice, performance, fill in the blank).</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entic application related to a real-world situation that engages all students and allows for deeper understandings to be show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at the beginning of the uni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the essential question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ability for students to transfer knowledg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regular feedback to the stud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to most all areas of learning style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at least two testing components (ex.: constructed response, multiple choice, performance, fill in the blank).</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s mostly authentic and students are engag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given at the beginning of the uni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focused on the essential question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k of regular feedback.</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s mainly on one learning styl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 testing component is incorporated into assessm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s not authentic and has no relevance to a real-world situation.  Assessment pieces do not provide engaging activities for student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 Photo Album Rubric Continued..</a:t>
            </a:r>
            <a:endParaRPr b="0" lang="en-US" sz="3600" spc="-1" strike="noStrike">
              <a:solidFill>
                <a:srgbClr val="8c0039"/>
              </a:solidFill>
              <a:latin typeface="Arial"/>
            </a:endParaRPr>
          </a:p>
        </p:txBody>
      </p:sp>
      <p:graphicFrame>
        <p:nvGraphicFramePr>
          <p:cNvPr id="146" name=""/>
          <p:cNvGraphicFramePr/>
          <p:nvPr/>
        </p:nvGraphicFramePr>
        <p:xfrm>
          <a:off x="2438280" y="1600200"/>
          <a:ext cx="6400800" cy="4017960"/>
        </p:xfrm>
        <a:graphic>
          <a:graphicData uri="http://schemas.openxmlformats.org/drawingml/2006/table">
            <a:tbl>
              <a:tblPr/>
              <a:tblGrid>
                <a:gridCol w="1600200"/>
                <a:gridCol w="1600200"/>
                <a:gridCol w="1600200"/>
                <a:gridCol w="1600200"/>
              </a:tblGrid>
              <a:tr h="59976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xceed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ets Expect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 po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58bf9"/>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eeds More Tim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 poi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58bf9"/>
                    </a:solidFill>
                  </a:tcPr>
                </a:tc>
              </a:tr>
              <a:tr h="341820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ubric for performance assessment</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clear and focused goals that are well explain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in kid languag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take part in co-writing the rubri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given an opportunity to self-evaluate, and adjus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students feedback comments that include action steps to improve the assessm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models of students work at varying ability levels (excellence and poor) are provided and discussed with stud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lly aligned with learning goal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able to student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informed for what is expect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given an opportunity for self-adjustm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comments are incorporat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s of student work are provided and discussed with stud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0d8e8"/>
                    </a:solidFill>
                  </a:tcPr>
                </a:tc>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gue relation to learning goals and enduring understandings.</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in adult languag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nformed receiv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ks the opportunity for students to gain insight from feedback and adjus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is not incorporated.</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odels of student work are provid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0d8e8"/>
                    </a:solidFill>
                  </a:tcPr>
                </a:tc>
              </a:tr>
            </a:tbl>
          </a:graphicData>
        </a:graphic>
      </p:graphicFrame>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eacher Revisions</a:t>
            </a: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oom Renovation Proposed Budget Overview</a:t>
            </a:r>
            <a:endParaRPr b="0" lang="en-US" sz="3600" spc="-1" strike="noStrike">
              <a:solidFill>
                <a:srgbClr val="8c0039"/>
              </a:solidFill>
              <a:latin typeface="Arial"/>
            </a:endParaRPr>
          </a:p>
        </p:txBody>
      </p:sp>
      <p:sp>
        <p:nvSpPr>
          <p:cNvPr id="92" name="PlaceHolder 2"/>
          <p:cNvSpPr>
            <a:spLocks noGrp="1"/>
          </p:cNvSpPr>
          <p:nvPr>
            <p:ph/>
          </p:nvPr>
        </p:nvSpPr>
        <p:spPr>
          <a:xfrm>
            <a:off x="2437920" y="1600200"/>
            <a:ext cx="312444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4005c"/>
                </a:solidFill>
                <a:latin typeface="Arial"/>
              </a:rPr>
              <a:t>Students will be able to understand that:</a:t>
            </a:r>
            <a:endParaRPr b="0" lang="en-US" sz="18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Area is used to calculate the amount of space covered with a shape of single dimensio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Surface area is used to calculate the amount of space covered with a three dimensional sha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3"/>
          <p:cNvSpPr>
            <a:spLocks noGrp="1"/>
          </p:cNvSpPr>
          <p:nvPr>
            <p:ph/>
          </p:nvPr>
        </p:nvSpPr>
        <p:spPr>
          <a:xfrm>
            <a:off x="5715000" y="1600200"/>
            <a:ext cx="3124080" cy="44956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4005c"/>
                </a:solidFill>
                <a:latin typeface="Arial"/>
              </a:rPr>
              <a:t>Students will know</a:t>
            </a:r>
            <a:r>
              <a:rPr b="1" i="1" lang="en-US" sz="1700" spc="-1" strike="noStrike">
                <a:solidFill>
                  <a:srgbClr val="e4005c"/>
                </a:solidFill>
                <a:latin typeface="Arial"/>
              </a:rPr>
              <a: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Vocabulary: area and surface area formula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Mathematical skill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How to determine which formula they will need to use for their calculation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Conversions of inches, yards and fee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Determine cost efficiency (Business)</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Create a visual representation of final project (Art and Technology)</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Arial"/>
              </a:rPr>
              <a:t>Create a written summary of their findings (Language Arts)</a:t>
            </a:r>
            <a:endParaRPr b="0" lang="en-US" sz="1600" spc="-1" strike="noStrike">
              <a:solidFill>
                <a:srgbClr val="000000"/>
              </a:solidFill>
              <a:latin typeface="Arial"/>
            </a:endParaRPr>
          </a:p>
        </p:txBody>
      </p:sp>
      <p:pic>
        <p:nvPicPr>
          <p:cNvPr id="94" name="Picture 7" descr=""/>
          <p:cNvPicPr/>
          <p:nvPr/>
        </p:nvPicPr>
        <p:blipFill>
          <a:blip r:embed="rId1"/>
          <a:stretch/>
        </p:blipFill>
        <p:spPr>
          <a:xfrm>
            <a:off x="2743200" y="4114800"/>
            <a:ext cx="2184480" cy="149076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andards or Established Goals</a:t>
            </a:r>
            <a:endParaRPr b="0" lang="en-US" sz="3600" spc="-1" strike="noStrike">
              <a:solidFill>
                <a:srgbClr val="8c0039"/>
              </a:solidFill>
              <a:latin typeface="Arial"/>
            </a:endParaRPr>
          </a:p>
        </p:txBody>
      </p:sp>
      <p:sp>
        <p:nvSpPr>
          <p:cNvPr id="96" name="PlaceHolder 2"/>
          <p:cNvSpPr>
            <a:spLocks noGrp="1"/>
          </p:cNvSpPr>
          <p:nvPr>
            <p:ph/>
          </p:nvPr>
        </p:nvSpPr>
        <p:spPr>
          <a:xfrm>
            <a:off x="2438280" y="1599840"/>
            <a:ext cx="6400800" cy="4876920"/>
          </a:xfrm>
          <a:prstGeom prst="rect">
            <a:avLst/>
          </a:prstGeom>
          <a:noFill/>
          <a:ln w="0">
            <a:noFill/>
          </a:ln>
        </p:spPr>
        <p:txBody>
          <a:bodyPr lIns="90000" rIns="90000" tIns="46800" bIns="46800"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005c"/>
                </a:solidFill>
                <a:latin typeface="Arial"/>
              </a:rPr>
              <a:t>New Jersey Core Curriculum Content Standards:</a:t>
            </a:r>
            <a:endParaRPr b="0" lang="en-US" sz="18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E.2- Use a variety of strategies to determine perimeter and area of plane figures and surface area of 3D figure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1- Use geometric models to represent real world situations and objects and to solve problems using those model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3- Apply the properties of geometric shape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4- Use reasoning and some form of proof to verify or refute conjectures or theorem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1- Learn mathematics through problem solving, inquiry, and discovery.</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2- Solve problems that arise in mathematics and in other context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3- Select and apply a variety of appropriate problem solving strategie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4- Pose problems of various types and levels of difficulty.</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5- Monitor their progress and reflect on the process of their problem solving activity.</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1- Use communication to organize and clarify their mathematical thinking.</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2- Communicate their mathematical thinking coherently and clearly to peers, teachers, and others, both orally and in writing.</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3- analyze and evaluate the mathematical thinking and strategies of others.</a:t>
            </a:r>
            <a:endParaRPr b="0" lang="en-US" sz="1400" spc="-1" strike="noStrike">
              <a:solidFill>
                <a:srgbClr val="000000"/>
              </a:solidFill>
              <a:latin typeface="Arial"/>
            </a:endParaRPr>
          </a:p>
          <a:p>
            <a:pPr marL="343080" indent="-343080">
              <a:lnSpc>
                <a:spcPct val="7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B.4- Use the language of mathematics to express mathematical ideas precisely.</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andards or Established Goals Continued..</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1- recognize recurring themes across mathematical domain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2- Use connections among mathematical ideas to explain concept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3- Recognize that mathematics is used in a variety of contexts outside of mathematic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4- Apply mathematics in practical situations and in other discipline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C.6-Understand how mathematical ideas interconnect and build on one another to produce a coherent whole.</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E.1- Create and use representations to organize, record and communicate mathematical idea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E.2- Select, apply and translate among mathematical representations to solve problem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E.3- Use representations to model and interpret physical, social, and mathematical phenomena </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12.F.3 Select and utilize resources that have been modified by digital tools (e.g., CNC equipment, CAD software) in the creation of a technological product or system.</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12.A.9</a:t>
            </a:r>
            <a:r>
              <a:rPr b="1" lang="en-US" sz="1400" spc="-1" strike="noStrike">
                <a:solidFill>
                  <a:srgbClr val="000000"/>
                </a:solidFill>
                <a:latin typeface="Arial"/>
              </a:rPr>
              <a:t> </a:t>
            </a:r>
            <a:r>
              <a:rPr b="0" lang="en-US" sz="1400" spc="-1" strike="noStrike">
                <a:solidFill>
                  <a:srgbClr val="000000"/>
                </a:solidFill>
                <a:latin typeface="Arial"/>
              </a:rPr>
              <a:t>Reflect on own writing and establish goals for growth and improvement.</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12.C.1 Use Standard English conventions in all writing (sentence structure, grammar and usage, punctuation, capitalization, spelling).</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12 E</a:t>
            </a:r>
            <a:r>
              <a:rPr b="1" lang="en-US" sz="1400" spc="-1" strike="noStrike">
                <a:solidFill>
                  <a:srgbClr val="000000"/>
                </a:solidFill>
                <a:latin typeface="Arial"/>
              </a:rPr>
              <a:t>.</a:t>
            </a:r>
            <a:r>
              <a:rPr b="0" lang="en-US" sz="1400" spc="-1" strike="noStrike">
                <a:solidFill>
                  <a:srgbClr val="000000"/>
                </a:solidFill>
                <a:latin typeface="Arial"/>
              </a:rPr>
              <a:t>5. Use comparative shopping techniques for the acquisition of goods and services.</a:t>
            </a:r>
            <a:endParaRPr b="0" lang="en-US" sz="1400" spc="-1" strike="noStrike">
              <a:solidFill>
                <a:srgbClr val="000000"/>
              </a:solidFill>
              <a:latin typeface="Arial"/>
            </a:endParaRPr>
          </a:p>
          <a:p>
            <a:pPr marL="312120" indent="-31212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2 D.2 Perform various methods and techniques used in the production of works of art.</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tandards or Established Goals Continued…</a:t>
            </a:r>
            <a:endParaRPr b="0" lang="en-US" sz="36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005c"/>
                </a:solidFill>
                <a:latin typeface="Arial"/>
              </a:rPr>
              <a:t>National Mathematics Standard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properties and determine attributes of two and three-dimensional object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relationships (including congruence and similarity) among classes of two and three-dimensional geometric objects, make and test conjectures about them, and solve problems involving th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the validity of geometric conjectures using deduction, prove theorems, and critique arguments made by others.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nd construct representations of two and three-dimensional geometric objects using a variety of tool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eometric models to gain insights into, and answer questions in, other areas of mathematic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eometric ideas to solve problems in, and gain insights into, other disciplines and other areas of interest such as art and architecture.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Learning Goals</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identify and define shape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successfully calculate area of shape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successfully calculate the surface area of a given shap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apply understanding of formulas to real world situations</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calculate the total area of rooms in their home and students will be able to calculate the total surface area of rooms in their home</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determine how much material will be needed to complete a renovation</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ll be able to calculate total expenses for renovations, and students will be able to create a proposed budget for the room renov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ssential Questions</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en am I going to use area and surface area in real life situations? </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8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determine how much material you will need as well as the final costs?</a:t>
            </a:r>
            <a:endParaRPr b="0" lang="en-US" sz="2300" spc="-1" strike="noStrike">
              <a:solidFill>
                <a:srgbClr val="000000"/>
              </a:solidFill>
              <a:latin typeface="Arial"/>
            </a:endParaRPr>
          </a:p>
          <a:p>
            <a:pPr marL="343080" indent="0" algn="ctr">
              <a:lnSpc>
                <a:spcPct val="8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else can I use area and surface area around the home?</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calculate area and surface area and what is the difference between them?</a:t>
            </a:r>
            <a:endParaRPr b="0" lang="en-US" sz="2300" spc="-1" strike="noStrike">
              <a:solidFill>
                <a:srgbClr val="000000"/>
              </a:solidFill>
              <a:latin typeface="Arial"/>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ec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ssessments</a:t>
            </a:r>
            <a:endParaRPr b="0" lang="en-US" sz="3600" spc="-1" strike="noStrike">
              <a:solidFill>
                <a:srgbClr val="8c0039"/>
              </a:solidFill>
              <a:latin typeface="Arial"/>
            </a:endParaRPr>
          </a:p>
        </p:txBody>
      </p:sp>
      <p:pic>
        <p:nvPicPr>
          <p:cNvPr id="106" name="Content Placeholder 6" descr=""/>
          <p:cNvPicPr/>
          <p:nvPr/>
        </p:nvPicPr>
        <p:blipFill>
          <a:blip r:embed="rId1"/>
          <a:stretch/>
        </p:blipFill>
        <p:spPr>
          <a:xfrm>
            <a:off x="2286000" y="1143000"/>
            <a:ext cx="6858000" cy="5257800"/>
          </a:xfrm>
          <a:prstGeom prst="rect">
            <a:avLst/>
          </a:prstGeom>
          <a:ln w="0">
            <a:noFill/>
          </a:ln>
        </p:spPr>
      </p:pic>
      <p:pic>
        <p:nvPicPr>
          <p:cNvPr id="107" name="Picture 7" descr=""/>
          <p:cNvPicPr/>
          <p:nvPr/>
        </p:nvPicPr>
        <p:blipFill>
          <a:blip r:embed="rId2"/>
          <a:stretch/>
        </p:blipFill>
        <p:spPr>
          <a:xfrm>
            <a:off x="5778360" y="0"/>
            <a:ext cx="3365640" cy="22096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22:05:11Z</dcterms:created>
  <dc:creator>Owner</dc:creator>
  <dc:description/>
  <dc:language>en-US</dc:language>
  <cp:lastModifiedBy>Owner</cp:lastModifiedBy>
  <dcterms:modified xsi:type="dcterms:W3CDTF">2010-12-11T01:34:41Z</dcterms:modified>
  <cp:revision>9</cp:revision>
  <dc:subject/>
  <dc:title>Room Renovation Proposed Budget</dc:title>
</cp:coreProperties>
</file>